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A688-C2AC-4DAD-8A90-DFC67F41C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D847-87C0-43EF-8DE4-F3364502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6F84-FFB3-423E-B1FF-9C61962A6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AC34-B819-48E6-A3C9-457A364BE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CC9B-B708-4B83-8BB3-A67D4122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2410-87ED-40DF-90C1-9E36998D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20AB-2B53-48BE-9207-12E2093B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D7CB-C9FD-45F0-855B-52DE84CC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F744-C865-4C01-A8A5-ECCFC4F2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F8D0-7EED-4E08-BD1B-DA85974F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7393-122C-46DF-8AB8-FC360673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4B12-32B1-4AC9-9BDC-221F0E11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2D0D-2B55-4881-AB12-012BDE35B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472428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Arial"/>
              </a:rPr>
              <a:t>Ribbon et Curly naviguent sur un bateau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38080" y="4724280"/>
            <a:ext cx="7315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ibbon pilote un av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43000" y="4724280"/>
            <a:ext cx="7315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ibbon vole d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362320" y="4419720"/>
            <a:ext cx="487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 hélicoptè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90720" y="4572000"/>
            <a:ext cx="7010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ibbon voyage en fu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é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2280" y="4800600"/>
            <a:ext cx="88394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es Zommies et les trasnports est 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édié à Rob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4343400"/>
            <a:ext cx="84582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Arial"/>
              </a:rPr>
              <a:t>Ribbon et Silly Billy montent sur une patinett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600" y="4572000"/>
            <a:ext cx="8686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00"/>
                </a:solidFill>
                <a:latin typeface="Arial"/>
              </a:rPr>
              <a:t>Silly Billy court sur une planche </a:t>
            </a:r>
            <a:r>
              <a:rPr b="0" lang="en-US" sz="3500" spc="-1" strike="noStrike">
                <a:solidFill>
                  <a:srgbClr val="ffff00"/>
                </a:solidFill>
                <a:latin typeface="Arial"/>
                <a:ea typeface="Arial"/>
              </a:rPr>
              <a:t>à roulette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76520" y="457200"/>
            <a:ext cx="5333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lly Billy mont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à vé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90920" y="228600"/>
            <a:ext cx="4038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 tortue doit march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676520" y="228600"/>
            <a:ext cx="6095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rly conduit une mot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304920"/>
            <a:ext cx="87631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urly et SiIly Billy sautent d’un tramway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90720" y="5486400"/>
            <a:ext cx="7315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ibbon va en autobu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3880" y="4572000"/>
            <a:ext cx="63248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ibbon conduit une voitu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7:18:47Z</dcterms:created>
  <dc:creator>CVJH-LAB</dc:creator>
  <dc:description/>
  <dc:language>en-US</dc:language>
  <cp:lastModifiedBy>nield411</cp:lastModifiedBy>
  <dcterms:modified xsi:type="dcterms:W3CDTF">2008-02-23T15:47:20Z</dcterms:modified>
  <cp:revision>8</cp:revision>
  <dc:subject/>
  <dc:title>Slide 1</dc:title>
</cp:coreProperties>
</file>